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E81-3E09-453E-8459-5560B9B0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30E-BB06-414B-9C20-5863AF2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C68-DEE9-4AEE-AFD5-7B2F0880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4E3-8C5C-4292-A118-DF64B034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F6A-0794-41D1-B110-DD37C82F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727-E877-4BD9-9357-DE3CB2F9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618-A4C3-476F-AB2F-1DFA8B28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C1E-3DDB-4408-9CBF-D0889A11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5AB-DE8F-477F-A23B-47660E77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F07-A020-4C70-A722-3CDDD41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481-8360-47B4-ACFE-2B11FE9F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B6F-7301-4A42-A6F4-37DFE97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D3CC-14D1-41EB-93A5-9D51ACFD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562640" y="465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780280" y="4149720"/>
            <a:ext cx="3838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开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路中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电流通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元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616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361960" y="91404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绿灯制作方法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891440" y="181224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维拓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把回形针按到下面的图钉上，这个图钉后方的灯就亮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我想加一个灯 ，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449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16000" y="4437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67280" y="4365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020000" y="4292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2"/>
          <p:cNvPicPr/>
          <p:nvPr/>
        </p:nvPicPr>
        <p:blipFill>
          <a:blip r:embed="rId1"/>
          <a:stretch/>
        </p:blipFill>
        <p:spPr>
          <a:xfrm>
            <a:off x="-396720" y="1197000"/>
            <a:ext cx="9540720" cy="3527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740720" y="2492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258920" y="38671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508720" y="2492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258920" y="256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203640" y="256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76720" y="3933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508720" y="386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大家回家以后，调查至少一种家用电器的开关，是哪种开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428760" y="1928880"/>
            <a:ext cx="1800000" cy="170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电风扇开关"/>
          <p:cNvPicPr/>
          <p:nvPr/>
        </p:nvPicPr>
        <p:blipFill>
          <a:blip r:embed="rId2"/>
          <a:stretch/>
        </p:blipFill>
        <p:spPr>
          <a:xfrm>
            <a:off x="2571840" y="185724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遥控"/>
          <p:cNvPicPr/>
          <p:nvPr/>
        </p:nvPicPr>
        <p:blipFill>
          <a:blip r:embed="rId3"/>
          <a:stretch/>
        </p:blipFill>
        <p:spPr>
          <a:xfrm>
            <a:off x="4429080" y="150012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Pict0001"/>
          <p:cNvPicPr/>
          <p:nvPr/>
        </p:nvPicPr>
        <p:blipFill>
          <a:blip r:embed="rId4"/>
          <a:stretch/>
        </p:blipFill>
        <p:spPr>
          <a:xfrm>
            <a:off x="7093080" y="549360"/>
            <a:ext cx="1716120" cy="395136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15"/>
          <p:cNvSpPr/>
          <p:nvPr/>
        </p:nvSpPr>
        <p:spPr>
          <a:xfrm flipH="1">
            <a:off x="4428720" y="0"/>
            <a:ext cx="180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1643040" y="5357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触式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5929200" y="53578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接触式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p1.so.qhmsg.com/bdr/_240_/t015676e7f85aa0cca6.jpg"/>
          <p:cNvPicPr/>
          <p:nvPr/>
        </p:nvPicPr>
        <p:blipFill>
          <a:blip r:embed="rId1"/>
          <a:stretch/>
        </p:blipFill>
        <p:spPr>
          <a:xfrm>
            <a:off x="928800" y="1065240"/>
            <a:ext cx="77533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0" y="2917800"/>
            <a:ext cx="9144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2LXOCCX)ATNJC{D(Z4G(AK0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3"/>
          <p:cNvGrpSpPr/>
          <p:nvPr/>
        </p:nvGrpSpPr>
        <p:grpSpPr>
          <a:xfrm>
            <a:off x="-288720" y="29160"/>
            <a:ext cx="4870080" cy="4737960"/>
            <a:chOff x="-288720" y="29160"/>
            <a:chExt cx="4870080" cy="4737960"/>
          </a:xfrm>
        </p:grpSpPr>
        <p:sp>
          <p:nvSpPr>
            <p:cNvPr id="56" name="AutoShape 9"/>
            <p:cNvSpPr/>
            <p:nvPr/>
          </p:nvSpPr>
          <p:spPr>
            <a:xfrm>
              <a:off x="3232440" y="243468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3232440" y="243468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890640" y="251640"/>
              <a:ext cx="251064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878560"/>
              <a:ext cx="1200240" cy="154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4"/>
          <p:cNvSpPr/>
          <p:nvPr/>
        </p:nvSpPr>
        <p:spPr>
          <a:xfrm>
            <a:off x="928800" y="4929120"/>
            <a:ext cx="716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5072040" y="500040"/>
            <a:ext cx="3168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072120" y="2857680"/>
            <a:ext cx="25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电筒开关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缘体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直接箭头连接符 10"/>
          <p:cNvCxnSpPr/>
          <p:nvPr/>
        </p:nvCxnSpPr>
        <p:spPr>
          <a:xfrm flipV="1">
            <a:off x="2714760" y="1142640"/>
            <a:ext cx="4291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直接箭头连接符 15"/>
          <p:cNvCxnSpPr/>
          <p:nvPr/>
        </p:nvCxnSpPr>
        <p:spPr>
          <a:xfrm>
            <a:off x="3143160" y="1071360"/>
            <a:ext cx="2152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直接箭头连接符 18"/>
          <p:cNvCxnSpPr/>
          <p:nvPr/>
        </p:nvCxnSpPr>
        <p:spPr>
          <a:xfrm flipH="1">
            <a:off x="2999880" y="1285560"/>
            <a:ext cx="277200" cy="438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直接箭头连接符 22"/>
          <p:cNvCxnSpPr/>
          <p:nvPr/>
        </p:nvCxnSpPr>
        <p:spPr>
          <a:xfrm>
            <a:off x="3070800" y="1785600"/>
            <a:ext cx="14364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直接箭头连接符 26"/>
          <p:cNvCxnSpPr/>
          <p:nvPr/>
        </p:nvCxnSpPr>
        <p:spPr>
          <a:xfrm flipH="1">
            <a:off x="2714040" y="1999800"/>
            <a:ext cx="50076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直接箭头连接符 30"/>
          <p:cNvCxnSpPr/>
          <p:nvPr/>
        </p:nvCxnSpPr>
        <p:spPr>
          <a:xfrm flipH="1">
            <a:off x="1499400" y="2857680"/>
            <a:ext cx="1143720" cy="1429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" name="直接箭头连接符 32"/>
          <p:cNvCxnSpPr/>
          <p:nvPr/>
        </p:nvCxnSpPr>
        <p:spPr>
          <a:xfrm flipH="1" flipV="1">
            <a:off x="1071360" y="4071240"/>
            <a:ext cx="42912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直接箭头连接符 35"/>
          <p:cNvCxnSpPr/>
          <p:nvPr/>
        </p:nvCxnSpPr>
        <p:spPr>
          <a:xfrm flipV="1">
            <a:off x="1141920" y="1928160"/>
            <a:ext cx="1500840" cy="2072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1" name="直接箭头连接符 42"/>
          <p:cNvCxnSpPr/>
          <p:nvPr/>
        </p:nvCxnSpPr>
        <p:spPr>
          <a:xfrm flipH="1">
            <a:off x="3571560" y="3286080"/>
            <a:ext cx="128664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直接箭头连接符 44"/>
          <p:cNvCxnSpPr/>
          <p:nvPr/>
        </p:nvCxnSpPr>
        <p:spPr>
          <a:xfrm flipH="1" flipV="1">
            <a:off x="3428280" y="3999960"/>
            <a:ext cx="1072440" cy="500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49"/>
          <p:cNvSpPr/>
          <p:nvPr/>
        </p:nvSpPr>
        <p:spPr>
          <a:xfrm>
            <a:off x="4857840" y="3071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0"/>
          <p:cNvSpPr/>
          <p:nvPr/>
        </p:nvSpPr>
        <p:spPr>
          <a:xfrm>
            <a:off x="4500720" y="4357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绝缘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G092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029200" y="304920"/>
            <a:ext cx="3809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自制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42920" y="4046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，小开关的制作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55640" y="1484280"/>
            <a:ext cx="76201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回形针做开关的接触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图钉固定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5CP{J]E(XX}`B~7~CSNG6B"/>
          <p:cNvPicPr/>
          <p:nvPr/>
        </p:nvPicPr>
        <p:blipFill>
          <a:blip r:embed="rId1"/>
          <a:stretch/>
        </p:blipFill>
        <p:spPr>
          <a:xfrm>
            <a:off x="395280" y="2349360"/>
            <a:ext cx="388764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EE6GOJNUJQ0FU(`@$PN80B"/>
          <p:cNvPicPr/>
          <p:nvPr/>
        </p:nvPicPr>
        <p:blipFill>
          <a:blip r:embed="rId2"/>
          <a:stretch/>
        </p:blipFill>
        <p:spPr>
          <a:xfrm>
            <a:off x="4500720" y="2421000"/>
            <a:ext cx="3887640" cy="2492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594960" y="5300640"/>
            <a:ext cx="15523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形针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124000" y="105192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4356000" y="270828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/>
  <dc:description/>
  <dc:language>en-US</dc:language>
  <cp:lastModifiedBy/>
  <dcterms:modified xsi:type="dcterms:W3CDTF">2020-02-15T10:29:40Z</dcterms:modified>
  <cp:revision>45</cp:revision>
  <dc:subject/>
  <dc:title/>
</cp:coreProperties>
</file>